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559069"/>
        <c:axId val="53917856"/>
      </c:barChart>
      <c:catAx>
        <c:axId val="975590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17856"/>
        <c:crosses val="autoZero"/>
        <c:auto val="1"/>
        <c:lblAlgn val="ctr"/>
        <c:lblOffset val="100"/>
        <c:noMultiLvlLbl val="0"/>
      </c:catAx>
      <c:valAx>
        <c:axId val="539178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590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76ED-7185-4816-8C94-E8B8C3E3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337C-F44D-4979-93AA-9C105182B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D1EF-DA38-43DE-AE70-8DF417B2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3E58-04F6-43AC-A8D4-8264B6983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89B9-F916-48D6-945F-26B22E48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0354-3256-4BCB-87C5-547A30A0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1889-5A5F-45CA-85D5-4C014691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F55D-C0A5-4E40-AC95-92A31C99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A7CD-3673-4F10-A2CB-8322595E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91C0-BD07-44A3-9E9C-90532E98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A4FD-A57E-417E-8644-9D89E6FB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7F24-D7DE-447A-AB1C-E1F88C7A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DA0EE-5B67-4568-B88D-B90F37F9A5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