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52547"/>
        <c:axId val="61780863"/>
      </c:barChart>
      <c:catAx>
        <c:axId val="78152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80863"/>
        <c:crosses val="autoZero"/>
        <c:auto val="1"/>
        <c:lblAlgn val="ctr"/>
        <c:lblOffset val="100"/>
        <c:noMultiLvlLbl val="0"/>
      </c:catAx>
      <c:valAx>
        <c:axId val="617808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2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E72-69C5-4B63-9ABD-D002A435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028-3D3C-47CD-97CF-7003AE81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75F-38B7-4447-B36D-A80FFEBC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0C5-8ADA-4696-B3E7-933BD92A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E50-0448-4634-87C5-81522692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CEC-1AB2-4347-98B6-6985D086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61F-3378-4CD5-BCE2-6D06E467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9F8-79E1-475A-8590-BAFB123B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B53-42BC-4626-BFEA-02EA8FFE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F8F3-A7F4-4825-BDD2-A44852C8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167-AC4C-474E-9BF1-AF0EC9AC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4BE-9611-4CB7-9B46-54513D97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F46D2-E077-47A7-8E05-981975CB30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