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4379"/>
        <c:axId val="96316034"/>
      </c:barChart>
      <c:catAx>
        <c:axId val="4194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6034"/>
        <c:crosses val="autoZero"/>
        <c:auto val="1"/>
        <c:lblAlgn val="ctr"/>
        <c:lblOffset val="100"/>
        <c:noMultiLvlLbl val="0"/>
      </c:catAx>
      <c:valAx>
        <c:axId val="96316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4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BE9-4B97-452B-9760-D0E8F832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121-233F-4083-8DB6-D3BBAB3C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C6A-9AEC-4F4A-A218-5344AFF5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5D0-EE2E-4989-9334-AAF4E5A4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7A7-A1CF-4956-9656-810BACD2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DED-6E9C-4390-957A-6C951278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91C-C4F2-429C-8A2A-04686D70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A5D-A025-47AB-94F7-D622F690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B49-F9B2-4C24-AA35-9085D026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147-BD05-41DE-9174-DE8C2D2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B39-D00D-41D7-9BBD-B7EBB891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EBF2-2FE9-4CA0-B289-865CFEF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1EE44-6F39-4FFC-AEF4-0FDEF57FAE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