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453311"/>
        <c:axId val="82240754"/>
      </c:barChart>
      <c:catAx>
        <c:axId val="864533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40754"/>
        <c:crosses val="autoZero"/>
        <c:auto val="1"/>
        <c:lblAlgn val="ctr"/>
        <c:lblOffset val="100"/>
        <c:noMultiLvlLbl val="0"/>
      </c:catAx>
      <c:valAx>
        <c:axId val="822407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533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77A7-89E4-45D9-8997-46BD1F39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BE0D-1D42-41BA-BF10-7B6DC427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1EAD-258E-4F2C-97CE-6D48E863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8F0F-B86C-4044-ADAA-40A76819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1DDA-F868-419E-A5B9-B50E292B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D94C-0A75-4C0D-92B4-27916793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6E5-9A68-402A-AFE5-3092ED94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A1D1-ABC2-4EB1-93EA-C3A7E1A2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6F97-BBCE-4F1E-935E-1EA7E94C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ED5C-3DF9-454D-912C-24D659FF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7837-D0EA-4C92-B127-0DD2BF1D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AB76-AC31-4C1E-B77A-520EC73D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9D7F2-48E5-43B3-BC3F-352BCEC987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