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64270"/>
        <c:axId val="49333038"/>
      </c:barChart>
      <c:catAx>
        <c:axId val="90064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33038"/>
        <c:crosses val="autoZero"/>
        <c:auto val="1"/>
        <c:lblAlgn val="ctr"/>
        <c:lblOffset val="100"/>
        <c:noMultiLvlLbl val="0"/>
      </c:catAx>
      <c:valAx>
        <c:axId val="493330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64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E2A-E1F0-4AE2-A835-1EC5CB94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A37-E92A-40A4-B7A0-1C6E0AA5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392-1FE1-49F7-B600-FAD11948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F393-3C4E-4EB9-901D-417A48F5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D96-D6DA-4A2D-AABB-BC887B32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AB0-8041-4549-855F-5B4AE53E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C8F-4867-40E9-B553-533704FE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240-5D68-4DEC-9B4D-AD018974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ADF-E0E1-4691-8AE4-35B9A6D0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0E5E-78ED-4B58-AE18-F611434B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6337-7B49-4E13-B27A-8DE6595C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2F9-119E-4A37-8D01-0B2DF10C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DD419-D898-499E-967B-D6D2856EB1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