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28066"/>
        <c:axId val="77167851"/>
      </c:barChart>
      <c:catAx>
        <c:axId val="68528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67851"/>
        <c:crosses val="autoZero"/>
        <c:auto val="1"/>
        <c:lblAlgn val="ctr"/>
        <c:lblOffset val="100"/>
        <c:noMultiLvlLbl val="0"/>
      </c:catAx>
      <c:valAx>
        <c:axId val="77167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28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87F-6255-416B-BCD0-CF0FECB0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2AC-CB11-42CC-A290-1ABEAC3B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FD6-05F3-4A50-8534-004F2CF9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9B2-4981-4C63-A0F8-E4C9473C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106-A318-4A70-8EE5-C13250CB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32A-FB45-464D-8F50-08413D22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CDA-7AD4-4FA0-9148-570A4F68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958-4AAB-4452-855F-D306AF14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A3F-47CE-4CEF-8B3B-94F37852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20F-0F22-4FBA-B9F7-77E64B3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62A-5993-4369-9371-161BB1B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F21-AD5F-454D-85C8-765F5120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DBD3A-308F-4163-9EE9-59FD87211D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