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CBE-3D2E-498A-8209-9C8C1DF2D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CDE9-50F6-4254-8EC7-96EFC2434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9127A-3DD7-41C2-9389-44188FB21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A3BAB2-0AA3-44BA-835D-24C00F64D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279A13-93BC-4531-B8BE-A9D559AB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AF9DE-21DB-4949-9216-F6053BE1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50E26-D188-4049-AAE4-2422055D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7F7F65-165F-47AC-89D5-52153F526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5F6193-F815-4FA0-8F44-AD0F76D2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57349F-736D-4725-896E-EE2E72B84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11CE40-F590-4BB4-BEDE-558F391E5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7E539C-B9A1-4A75-9895-85D750F9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3561-7D1F-4C71-A7D1-C11E93F1A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134D58-56BA-4808-845E-35DF1D88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A1643A-CA6B-455F-9FFB-2E576A5CB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35C0203-5D03-4AE8-B5DA-1423E0AA1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7005D4E-E651-4ADF-82D3-9C2864CFF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5FF955-E5EC-4CEC-AACB-26E4B0D2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1C2D0B-6683-4F4E-8C1E-8EE97A41C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0D52DC-2802-4D9D-8503-26B0ABBE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6B8C41E-B58A-491F-8DDC-648FA7D8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E3C99F-4F40-4984-9903-9BC17FBA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E1A0583-7F16-47D1-85BF-249CE157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52BC-BFFA-4E41-A574-E5DD810E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0699A2-B0E0-46BA-9ABB-B480F27B7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32511-F279-4352-A43C-3159017C1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56660-E22B-46A7-B9B1-EC152594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883369-53B1-4E09-8285-B6D24C29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2CCB83-ED8B-4C7E-929E-4F4F9E4E1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78A93-A061-4360-A988-F15DAE9A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E620AA-983C-4189-B402-5BED92FC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F550F-CD8C-4DD0-9307-103F4547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253B7A-33B9-49C3-A538-455EE1EB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44A34D-558A-4CC9-A1E0-9C6302D0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E1AD-08A4-45D8-A428-BA2F8FCE5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67A51-152B-4B8A-A64C-56A8589A3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4927E-4F68-4CE2-AFD4-717335A81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6DE6D9-D946-4BFC-931C-1AFB31E6E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E84813-D7F1-45E6-B389-3F05922CE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58E6E-8EE4-47BD-AB13-98D572BC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7418B9-A058-4539-A481-8B0814C9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4F7CCE-4BDE-4454-9C9F-BEC3B656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531110-F295-4550-9525-11C6FD4F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E1DAB-B54B-431A-A751-EF4540C0F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4C58C-2789-4534-ABAF-868749087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E6761-05EC-4B21-BA33-F93893F7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3FAD30-BC07-4236-9D1A-BD7609F5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6499B4-CCFD-4351-8F74-F781B3EE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F238A7-E774-413C-8CDD-5DF90F4D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1A9E96-75BF-4C24-A623-2A82E5CE5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14EE62-770F-444F-A2DD-553A0648F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B6070-9776-4A79-B56E-06091DF00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7E6E-8640-40DA-B676-297FD106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D2E0-711F-45F1-B4AF-0D0781E8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78D1-2A44-4847-B941-80EC361C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ABF20-78AE-41F0-A46F-E4BCFDD6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B7B-85CF-4C8B-BB58-5B31DD80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0CE59-DC46-45BD-A812-A57945F8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FA666-D272-401F-B357-7A91579F1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56DD3-E3E6-44C5-95D2-3983C53C5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C3D0-2BB9-4A6C-ABD3-BF84F1478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6F9D-3706-4CC5-A02E-65FCA79D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0111F-3FFC-480D-82E7-93D207D0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715A1-9EBC-458D-93C4-A55086A0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B91BD-0D35-454F-9B6F-10DBE421F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9B65E-CADD-4EA6-99F3-E3020EF3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74FAA-3917-47AF-AF1B-C201DAD44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B0A5-E3B7-4746-A342-0FDF8591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47E07-CFB6-48C8-8317-3FBFD809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B6F73-BB1B-4E49-A751-F36D8808F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79A32-7EB3-471B-8878-8C36F3EF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6328A-3378-409C-A977-6187FA15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0D13D-877B-46EB-B009-F0F70CBA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F1059-5780-4C04-988C-C64100FFA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E794A-EADC-4A24-81FB-3D23D3FF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F95F2-5FFD-4CC5-A4BC-579CD39C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8B5ED-D57A-4BCC-814A-5E5982684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29A06-DE70-4E79-832F-F61CABF19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A12D-7F47-4EDD-9403-2A50C559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703A04-EDD0-410D-909B-A36FF1902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1257A-1E08-463A-8E8A-D2E3C4B3C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52D52-1529-4361-B532-9CE76526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D9A9E-9F8B-4949-9D58-F6E168F3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E3190B-3377-43C7-884C-403786C97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3C8161-67EE-4EB1-A1E0-571B6F32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4E4FD-C21A-4602-A03D-7480D90F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CEE49-83A3-42AA-BAC9-684EC45C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BCFA8E-0ED6-48B3-8BDE-097DAFCC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D783FD-CBA6-4F25-B9F1-11646882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01E4-EC8C-4865-A2FD-F74E56FB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7F9B07-D4ED-4F0F-B3AB-824AE04D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CB13E6-22C4-4D6C-9D01-6ED1A7AE3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B3CB08-1E70-4B56-933F-8E22B1996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9AF97B-DBF0-4493-A526-6C1A84AA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4D3805-8A6C-4C32-B795-B321A9D97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CF0629-F15C-433C-979C-064D4160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5E00F5-BE19-41AE-909D-DE5CA5717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C7B59B-291F-403C-BDC4-45995B45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318C6A-3C6B-4A04-9268-FDBCFE16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2D956D-24CA-4C73-8D19-74E2476D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A7BD-E35C-4504-8C68-68629403C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461325-5799-4D5B-8095-A0CF1BD3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A0B9B-70B8-4240-AF71-F9403F22C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4B467-6F2E-46C7-95ED-0366E47E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0FCFE-A424-4B0D-B728-8259BBB28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500258-CC75-42C2-96B0-4D83BDB8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56AE0-E135-4A76-B10A-FD8590D4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5895E-F069-4EF0-A9DD-482FA6819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B0ED9-F481-4E8B-B539-7E9F3AF0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2F0D45-6935-4A9D-8771-CC70F322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C74913-1899-4660-8F4C-1208C4B71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E354-6274-426D-ABA0-CD461738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471ED2-84C9-4E5B-9343-E391B2E9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D8BFD-EAA0-4D56-A348-BCD72B7F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C2680-A1E5-4EC1-BA36-39D4CABBA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3D1CC-8B22-42A1-8510-0B1630F5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D05AC-7F6A-47CD-93F7-6E81DA40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53148-0616-41B6-B7FA-92CABEAC6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FC7A83-1A20-436B-A9FC-3C9A683C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BF3A8-4E11-4F76-AD77-8D2EED01B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D7149-00FA-4E95-8708-ABDBFBD6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2D62E-8DF9-42C2-95E6-F678C125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B0BC3-894D-4000-92CE-7110D198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B13D8-54E2-466A-99EF-A406CCC2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DDF6F-A5B1-42A8-B5A2-54C969639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4F230A-38E6-4619-A07C-BA83EB2A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0EB40-DD0A-4069-8854-1EE915C1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FB8CD-9ED0-4C98-90BF-D3A3A1BE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157534-9E14-452E-B321-E8A5ECF6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30A5F9-29BD-44D9-8D19-54B19F84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1F85F-10A4-48D1-8974-1A814916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492DE-FE6C-469E-97CC-3A7C0C4F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57115-DAA8-4860-AC77-19C3A818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8394-4955-4074-82FC-437B9034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FD8208-FF33-4291-A07A-C96EF5315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14D15-FBDE-414C-8C9A-1FAC79A3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883A2-397A-4236-8BE2-6B4ED34A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45241E-7BCB-4FCB-A118-9A538663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4D621-C837-47EC-859F-8BAF5BCC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04DC5-0533-4619-BBB1-EBF6E12F9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65D83-2863-4E1C-A05B-FA8614EB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2606AA-5B4C-4A1A-A262-642F6AD9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D0F524-1D4E-4837-8A1E-85DAD89C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445934-F175-48D7-A6BA-D50ED426A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D21AF-0BF0-477F-9C0C-82B37260C5A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DAB4-EB78-475F-B5F1-96E21E3A95F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860D0-FF78-415B-89F4-04BC04E67D9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0839-B153-4FB1-A03B-DC09DCB4B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CD97-7F8B-4320-B9A2-CF4D567C27E7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0EFA-770B-4CED-BB74-43E434AC80DD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C80F5-6328-45D9-AB90-F4E8A5096450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12AB0-C97C-47F0-B6D2-A77B0310CA98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265F-7699-4224-8A6D-3FD230BE37C4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B48C-8984-410B-A8EA-2B823EA1523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350A1-0E10-4EF7-9F38-7C189525C7F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4C17-1BF0-4A0E-9E87-7C53BF99E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A3A7C-521C-4B6D-8880-81CE128BB84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8790-238A-487C-A05F-6FEA86E2FC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69767-5030-4BB1-AC3E-694890272F6B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F491-83A8-4A8E-B844-C960ED70BC53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F204-F32E-4ACA-9CA6-EBDFC29E4667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DEC7-76DA-43AA-80DD-BF63B287C251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578CD-19DF-4587-8FBA-B329B2AEE9FB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946A-5315-4BBD-BE0C-3320D11B596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D785-758E-4301-9886-A537D9B75E19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9CFF-7820-4E29-8A27-3351FBBAB11A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5D19-5C4F-4EBE-B0A5-95F8DF83F0D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DD0D-47AC-4220-8B9E-CC37FF3B4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2401-1C10-4317-B2C5-320E5215141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DC0063-92D1-4FEF-BFB6-7DA2DE1A3E1D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17210-A8E4-46E7-968C-9838D61C941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7C3668C3-C11F-4D94-ABEE-47D71AD8A030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134" dur="2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3FF93-1591-43B1-8185-E77C433F9F83}" type="slidenum">
              <a:t>3</a:t>
            </a:fld>
          </a:p>
        </p:txBody>
      </p:sp>
    </p:spTree>
  </p:cSld>
  <p:transition>
    <p:comb dir="horz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000"/>
                            </p:stCondLst>
                            <p:childTnLst>
                              <p:par>
                                <p:cTn id="18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B09B19-6469-4FC0-A063-88610296F059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A249CAC5-AB9E-4DC8-8071-CDFCDD61FFA0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3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4000"/>
                            </p:stCondLst>
                            <p:childTnLst>
                              <p:par>
                                <p:cTn id="2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6000"/>
                            </p:stCondLst>
                            <p:childTnLst>
                              <p:par>
                                <p:cTn id="2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000"/>
                            </p:stCondLst>
                            <p:childTnLst>
                              <p:par>
                                <p:cTn id="2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9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1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2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3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6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7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8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9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B81F5C-1EC5-4C00-95A2-C2EC48E4F8C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777BBFE0-AA68-49BE-8F04-083EA29656E5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3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6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7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8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9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3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2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4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2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7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7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7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2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4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2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7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2D064-D3C7-49D3-A3BD-FDD8ED8C597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1A2DDE72-9FFC-4421-B75C-8D8C547785DF}" type="datetime1">
              <a:rPr lang="en-US"/>
              <a:t>07/28/26</a:t>
            </a:fld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1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4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49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0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3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8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9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