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A687F-2E82-4EF7-937A-A14505D62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AC1A6-CEA7-4E07-9337-40CB5D187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9425F-2A41-4E75-A893-94207ADAB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B7083-5258-4987-A57D-86E588EDF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9E503-3E17-432F-AEA6-8C280C321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E4DA1-D30A-4F3C-A9D6-9330F41A2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83EFC-A3B1-4A5C-BD3F-085C47AA6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2082C-C817-43A8-A3BA-4828E1258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3544F-3E52-42EE-9763-8AE598F7D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AF40E-1DB3-4512-83C9-E6694E954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28A7C-0C32-45D3-84A6-111245081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01F7C-12FA-4874-B37E-32899F66B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FC7DD-AFDA-4187-88D0-39D7A3AA5F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19200" y="1400040"/>
          <a:ext cx="6105600" cy="405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9200" y="1400040"/>
                    <a:ext cx="610560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3:31Z</dcterms:created>
  <dc:creator>Oliver Craemer</dc:creator>
  <dc:description/>
  <dc:language>en-US</dc:language>
  <cp:lastModifiedBy>Oliver Craemer</cp:lastModifiedBy>
  <dcterms:modified xsi:type="dcterms:W3CDTF">2005-01-06T09:23:42Z</dcterms:modified>
  <cp:revision>1</cp:revision>
  <dc:subject/>
  <dc:title>Slide 1</dc:title>
</cp:coreProperties>
</file>