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AB9-69C5-45F6-8535-1FDBD571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6CE8-147F-4F30-844A-D5A16204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03504-3348-48A5-977D-9E174EF2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F1E8C-BEF2-41FB-B820-95A9512F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B360D-73B3-4A3E-BF83-D483DC16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2AE13-CC9C-4F37-93EB-7479B26D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1512F-352E-4463-BD12-45257A95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4F71C-92C0-4DBE-AB5F-6DB2378D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CF758-2741-4CC5-A0E9-6D18E3A0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305D5-5AE2-4D13-B986-8EBFE890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5DE8F-8091-48DD-AB7E-EB63140D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0EE1E3-F073-4F3D-B1BF-F3DD15E4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42D-13E4-441D-9B3D-EFEAC0BC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7E9101-813C-4783-AE5D-6451F2B9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F06E63-05B9-4113-B3D2-70678956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7964BE-38F3-4C27-A4F5-A9A24CC6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EFE5D4-A820-4DD9-A824-AE19297D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03BC11-3B45-4DD4-BAF0-BA81E7B3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6BFC04-B275-4BD3-845B-375D880A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4EB5F7-0223-495E-8832-B6DBD32B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CA7675-584F-43C9-AE20-3DE84710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DA2272-39AC-4CFE-8E85-B35D2F8D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A451CC-8C92-4687-BFCD-E3223286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AE2-27CD-4247-BBBC-6E830724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47CE9A-B26B-4CDB-A3EF-C98328F7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595A8-43EA-4FA3-AE9B-86D492AC4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4363C-D7F0-4500-B08A-7EB1D571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51B52-8B09-47DA-AA9C-A5D31C1B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DF83E-6F31-45EF-BDB9-E62331C9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8D02B-48EE-44B6-810F-D24ED6A3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89D89-45DB-49E2-A4C7-4389FC55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22520-A823-44A8-B04E-103F8675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FB741-22CB-497B-A9D4-146BE948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5691C-411D-4493-9214-D79334BC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3098-ED25-4173-BF96-6A52EBDA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5E92A-01D1-4524-AE5E-A981B63D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D9FC7-527A-4AC8-92FC-3874A25B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AFED7-C423-4A97-B9E3-E6865C44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929B0-85C4-42F1-9F2C-E42DB8A8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04871-DFBA-487C-8713-536EB604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F3135-EFBF-4B46-8DA3-054342D7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0ED56-3499-4967-9049-D93A8338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D50AF-74D1-4BB7-A6F0-1A072064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46ACB-E91A-4E9B-AA32-6C0A584E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B0747-CABE-494A-AE0A-F8DF3F60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64D6-6413-424A-9017-215A590B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84CA9-F501-426A-86BF-CB9FDE84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CFC7C-EAE8-4458-8475-898552BC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CAC7D-26F2-4940-9274-87122E26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EE48A-7322-4E6C-BF2E-FBC07FDF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D4929-7A41-40A8-9AA6-FD61E1CA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0289-65BE-4D56-87BE-182FB664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1BB8-22B4-4F10-BE55-324597C4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140B-0207-47F5-A788-79924D95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CE91-D007-43ED-883F-9576C44E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5CFF-FA76-49C5-8A51-2F2BE7E0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AC5-97DE-402E-9F0A-95E3F495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719B-D7A2-4A4A-B53F-F736113A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7597-14CE-483B-9117-AC083B77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AD58-129D-4F35-ACCF-DDC2267B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87BA-A3A6-4919-934F-CC12FB2B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2902-9554-4FBD-B2A4-F7C33F93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D8057-DE86-4EE8-A1A3-27BDDC9B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9123C-CC3F-4B0F-A91B-E537A1F4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B3AC8-1142-452A-9609-E29FCF44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FD43D-E966-4249-B338-D6E6DEB8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4FFC9-83FE-41BE-AD92-1B4829A6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AB4F-96E7-4F8F-A1FB-45B60026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24ACB-4658-4F7C-A7D1-B9A7A779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42C2B-8BC1-459A-B7D6-FF4DDBD7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5F815-11F4-4AAD-838E-DE4A2271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77E78-9E02-45A2-A749-6D8CCF2F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855CD-DBFD-4A74-A36D-8E384261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E8691-C507-4DE4-B4CD-4F0B27DE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1D8F8-9467-4487-AA42-8231BB57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23735-A7B5-44CB-9EEE-B9319433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BA642-E604-4FCA-82AC-231D7F5B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8B069-ECC0-4A6E-8C9E-FD490DFC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D06-BC63-41C8-9C9D-217B4DCF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ECB78-B13D-4F43-B5E6-F0FE5258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01722-8FF7-4CEA-8E70-9C56D41E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5B36D-F00E-4829-B8E2-8DF7CD47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418BB-E391-49A8-8E77-D56BF62B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9B05A-7182-42F9-9535-FAB2109B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3E378-F5FE-4B03-B068-D80CEFA1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8B25B-2C3B-4CC3-87DC-0259CEF9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77974-6A15-4D85-886F-D0F5B217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ED156-B1DD-422C-B1A5-260FDBD7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D0C5BF-6D16-4880-8E63-36DB63D5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A0D-183C-49E6-8658-0DF4736E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DFD8B9-C76F-4716-8B5C-F62EDDD3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3342A-8810-46A3-9737-2E787D1C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7D05D-779A-4713-88D4-ABCA8051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78C923-623B-4650-A260-27320E71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AA9A47-A98E-4634-B72D-FC9A3D0B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9742C3-426B-479B-8186-E91860EE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CA2DA7-91E2-43F1-A69F-C287F419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D7A42-7841-4DEB-9239-AAB78F19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E23C63-2879-4114-A72F-F770B5A4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599B6-8B97-4F68-BDDE-3D6EBC22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1A8-44FE-4A9D-A0A2-DEB1D680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1F1386-ABEC-4E4A-97A7-54B9DAC4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D5A59-2B03-4D47-9714-3E20E101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6C2EC-ED4F-480E-BD87-56137C88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C4883-BF10-4716-ABEB-6F8BB937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4A0D4-EA08-4484-A90A-97722997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3F736-43E5-4D04-A9B3-03CF32B0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7EDC5-9FB8-4917-9E0A-13C2EEDC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C7F14-8EF5-49C9-8686-6DC1643C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57775-D3FC-4452-9346-38F5D26C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09BB1-2BB5-4625-935D-A57DC726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434F-40E3-4EC5-ACFC-B4DC2D42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1D2D0-C3D6-4CA5-901B-D8CF58E6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7C1B6-4A12-458E-8A38-71ED597E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0BA39-4EA7-4A48-B785-0ECE2BF5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E5D67-4D23-4531-85FC-767DA763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058C9-71B1-49F7-ACD4-608B8C83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4B872-8550-49C7-92CD-7401CD76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4BBB9-B4A5-4BA8-BB06-BA2A8FCC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4C315-979F-414C-A4D6-96892226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9E6A1-E93D-4852-8BDF-A5077826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A00D0-BDFF-4658-A5E7-52878788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4D25-6B46-4784-ADFB-875E5B57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24252-B2C7-45C9-8F4C-95086E52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CFB8D-63BD-4BE4-AF3F-B52C2A39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1CF65-3DEA-49FC-B3C3-CB531C3B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019AA-B3AB-4F10-9A64-A165E300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A18D2-CA93-4CAF-8EA1-582DF1CE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BFCD0-D129-4303-B756-196E66E4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C14C8-B609-4A34-8B19-EA26010D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6F3D9-1F69-4D2A-B43E-62A6B1FA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F231A-323E-4B1F-B0B5-E414BABE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CAACE-F0A3-42FB-B3FD-8D6BAF7F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ECD1-8985-4857-8EA5-4EAC4BE9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7430F-29F3-44C6-8E6C-6612C38C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129A1-1CDD-4A2C-BE7F-C825AE39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EF938-CDB3-43FE-86D6-716B1FDD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BA00F-F1AF-441A-94BE-5A032C8D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1B291-8D6A-4B28-A015-DCD55B97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46F3B-C783-4158-848B-6912F005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BEF4A-8071-4FA8-BE05-0BD2ED70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E4D22-4E3E-46B5-B842-F84BF422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44329-5A62-4B53-AE12-7F7A26DB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C2AB7-382E-412B-B90C-60646123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D23D-C159-40C5-B51E-7DCB690304D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A59C-6B70-48D1-81BB-DAC1A57285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D5C7-5266-445E-B9B6-89AF39C070B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F987-6E30-4511-8EDC-2FDAB51EA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825B-0F70-40AC-9E1D-051626AE3E7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2C9B-0D75-4FBE-A711-64D0736298C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FA31-64BB-4A8A-A0E1-EE9A1E03C15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0B65-70B4-4FBA-8797-382ACBBF69C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4A75-CA43-4199-A462-5EFE453C023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8221-FD7E-400D-AA70-8BB2B23A42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557D-B95E-4C8A-9F3C-3F7F272EDBE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5BCD-BABF-400D-99A6-BB5138BC5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0A67-80CF-4A61-8A83-4CDDBE5F718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84F5-C0CB-48D9-921D-6DAEE120C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2FB2-8234-4676-83F2-AD697FC1C06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9DD4-EDAA-4F00-B3F3-61377205358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61BD-1D4B-4212-B175-D098717B851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1409-FAAE-4CCE-AE0C-5CE112B1E0E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D6E5-59FE-42AD-A41C-EBCB0295A78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FC55-26EB-44DB-BCED-413655A57C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36E2-A5EB-421E-B5A0-300666B95CD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11FD-541B-4E13-A2D7-3D2C99DDE63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AEF8-142D-4095-B05F-72469627AA0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70EA-CBE1-4289-BB42-C1C6958E7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E80B-4A4C-4F18-8D38-81A20C88E0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2FBA4-C420-4482-A27F-81E23BB45DC1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A56CF-F665-4744-B2B6-58C852DA4F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7D551791-601C-4680-8198-64441321EC7C}" type="datetime1">
              <a:rPr lang="en-US"/>
              <a:t>07/29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9CC4A-9E55-4F5C-A01C-2F8DCC131740}" type="slidenum">
              <a:t>3</a:t>
            </a:fld>
          </a:p>
        </p:txBody>
      </p:sp>
    </p:spTree>
  </p:cSld>
  <p:transition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51E69-3A10-42DD-8B7F-DA22CAD1D01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FF65F676-403F-4FA3-B0F0-CFB97B5CAB5B}" type="datetime1">
              <a:rPr lang="en-US"/>
              <a:t>07/29/26</a:t>
            </a:fld>
          </a:p>
        </p:txBody>
      </p:sp>
    </p:spTree>
  </p:cSld>
  <p:transition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D0156-B525-42A5-BD59-BA838F0BE3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4386CDD-155C-43DA-BD51-7BF6C62A68F2}" type="datetime1">
              <a:rPr lang="en-US"/>
              <a:t>07/29/26</a:t>
            </a:fld>
          </a:p>
        </p:txBody>
      </p:sp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7BA2C-D030-4CB6-BBC2-667B6A73A2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4FBE83A1-5CDD-43E0-B534-D2E1D9A83D52}" type="datetime1">
              <a:rPr lang="en-US"/>
              <a:t>07/29/26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