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471597"/>
        <c:axId val="75293806"/>
      </c:barChart>
      <c:catAx>
        <c:axId val="214715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93806"/>
        <c:crosses val="autoZero"/>
        <c:auto val="1"/>
        <c:lblAlgn val="ctr"/>
        <c:lblOffset val="100"/>
        <c:noMultiLvlLbl val="0"/>
      </c:catAx>
      <c:valAx>
        <c:axId val="752938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715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59A8-CA77-4B47-B39C-7F6C8196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604F-55D6-4CED-BD67-08744895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2875-5FC9-40F5-BD7E-8430FF1AF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D090-6E2A-499E-9CBA-0BF233E18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D17F-FDA1-44C5-88DC-124BADEA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E576-B7FB-48A0-B735-6345CF47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AD82-95A3-4822-8B84-D63B144C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8BDD-922B-431B-9546-A219E8F0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7D8C-22AF-4B7D-BD17-9ED8694C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364B-DED1-4EE5-8812-A47AE73D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B19C-8EB1-404A-94E0-932C4DD3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9FCE-37A7-4D42-8437-A933C0BE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05F28-2E28-4005-B06D-34FDF6D35F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