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105136"/>
        <c:axId val="97936570"/>
      </c:barChart>
      <c:catAx>
        <c:axId val="431051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936570"/>
        <c:crosses val="autoZero"/>
        <c:auto val="1"/>
        <c:lblAlgn val="ctr"/>
        <c:lblOffset val="100"/>
        <c:noMultiLvlLbl val="0"/>
      </c:catAx>
      <c:valAx>
        <c:axId val="979365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1051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2B98-5E92-4508-93C1-E79BB11E1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82F2-D706-44EC-A5A6-3285C9F19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6F62-AA8F-4234-8315-87E7F1F96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164E-AF1E-4F37-9E02-225FC8D85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693C-4CA4-4C3A-910C-80C96753D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37D3-826C-41A2-921F-9D808BEA7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1B08-1A98-4B09-940B-20E1136D1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2326-8933-46A2-B142-A3E3E086F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51F5-A994-45B3-BCE8-B5AA0BA28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ED38-67EC-4202-A978-6F4FF192F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CFE8-B1B4-4E83-8729-DB0F3702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8958-2651-41F1-8D40-FC3A4B9E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C3CBD9-90B3-47EA-B525-1AEE99FF205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