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75446"/>
        <c:axId val="87896170"/>
      </c:barChart>
      <c:catAx>
        <c:axId val="51475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96170"/>
        <c:crosses val="autoZero"/>
        <c:auto val="1"/>
        <c:lblAlgn val="ctr"/>
        <c:lblOffset val="100"/>
        <c:noMultiLvlLbl val="0"/>
      </c:catAx>
      <c:valAx>
        <c:axId val="87896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5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570-7068-4817-91B4-15CCCB22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73F-3B31-4942-BF0D-B9F2F9A4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D2C-D3BB-4533-841E-2A380F96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F06-15A4-46A5-98C0-52E03F45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202-609B-4BC2-A524-744E2ADB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9B4-8C3E-49C4-A1E5-5EDE5D9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A96-3E50-44C7-A318-C6A06D26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E9D-BCC6-458A-8C58-555DDEC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883-A371-4C53-BF6D-919661E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8B8-F705-4A1E-9158-90C06E0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E0F-0632-461C-B84D-4A1DC7B7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E7D-96CA-446B-960A-38D5962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912B2-F66F-416F-8CEB-BA47BBB0B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