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33777"/>
        <c:axId val="62489992"/>
      </c:barChart>
      <c:catAx>
        <c:axId val="89033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89992"/>
        <c:crosses val="autoZero"/>
        <c:auto val="1"/>
        <c:lblAlgn val="ctr"/>
        <c:lblOffset val="100"/>
        <c:noMultiLvlLbl val="0"/>
      </c:catAx>
      <c:valAx>
        <c:axId val="62489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33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4BB-E4F0-4D78-A285-51429AC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8FB-F188-40BC-90D3-DF844EEC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FDE-43AD-4FD8-B98E-9C97DC2E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CC5-DDAE-495A-BB3E-1C167682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D58-10E0-4DC3-A32F-BD48FBDF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0D7-DBE5-47B7-9532-902C831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EE2-CE9E-4D9D-87FE-A9CED028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F82-141A-45D3-90EE-72DD5AA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497-3ABF-4E86-A0FD-025B34EC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042-F721-4A72-94A5-BC0B434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850-ABE6-40DB-A961-EE781B2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A66-6EDD-4D0D-815E-71C85FD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ABDA4-30A1-4FC0-81DC-18C284F0D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