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19436"/>
        <c:axId val="84115644"/>
      </c:barChart>
      <c:catAx>
        <c:axId val="48819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15644"/>
        <c:crosses val="autoZero"/>
        <c:auto val="1"/>
        <c:lblAlgn val="ctr"/>
        <c:lblOffset val="100"/>
        <c:noMultiLvlLbl val="0"/>
      </c:catAx>
      <c:valAx>
        <c:axId val="8411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19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8BB-C21C-49B6-8D68-2808EFDB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29A-A8B6-488F-B269-5ABF4D9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471-5804-4A75-9590-D316676A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1E7-557B-4FFA-986D-405651E3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580-32C4-4216-A8DC-E4B0C596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C90-BFC2-4BFD-AA26-3FB43EB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457-8EF3-4B80-A64E-3DB16D36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060-0974-4044-95AE-AB12D1FB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AB4-D71A-4A68-97C1-061E1E56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B9F-BA2E-470B-B60F-3FD6A74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1B9-5CF7-4596-B765-7AEEA87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F90-E4E2-48EE-B7D2-95E2D7F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D8EEF-7590-4642-B9BD-D6B095F1E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