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55975"/>
        <c:axId val="89882583"/>
      </c:barChart>
      <c:catAx>
        <c:axId val="64055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82583"/>
        <c:crosses val="autoZero"/>
        <c:auto val="1"/>
        <c:lblAlgn val="ctr"/>
        <c:lblOffset val="100"/>
        <c:noMultiLvlLbl val="0"/>
      </c:catAx>
      <c:valAx>
        <c:axId val="89882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55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188-817E-460E-8FFC-3EE09FAB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669-803E-4EE0-ACDB-C7FB0C6B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FF1-6311-4A47-B1B8-237C4012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58E-0688-46E4-9F08-5C9CF15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18E-BF3A-415D-83DA-7B3740F1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E29-22A4-4F7B-BB43-505C45FD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D00-EB63-4D2B-85FF-F14770A8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C85-7ED1-427F-A5F1-426CC849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859-8C06-4B80-A425-D9826F1B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496-78FB-4CD9-A256-AAC5A5F5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BB1-275E-4DBD-9478-AA6ACAD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BF4-3A2D-4A8C-A01A-6F781C3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8C645-1DAC-464F-AFE1-FD3F88E182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