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695004"/>
        <c:axId val="15970117"/>
      </c:barChart>
      <c:catAx>
        <c:axId val="256950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70117"/>
        <c:crosses val="autoZero"/>
        <c:auto val="1"/>
        <c:lblAlgn val="ctr"/>
        <c:lblOffset val="100"/>
        <c:noMultiLvlLbl val="0"/>
      </c:catAx>
      <c:valAx>
        <c:axId val="159701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950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0F0E-053B-454F-8BFC-B783A1C6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AA68-99A5-4AB1-8BE6-851682D2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12E0-95A1-4663-8A87-9C582C17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99BF-75BB-498B-ADE5-A7573B0A0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033D-7581-48E5-9A0C-3FA6FA05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8AFE-DF92-419A-AFE8-6CCA8C7B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7AA2-F62C-428C-9B70-9DB87DFC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4B2B-3533-4EB7-BF4B-4C207490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E428-0E4A-463B-A3CC-8EB0FF2E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4142-D080-4804-8450-08C438C9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536C-CE58-4869-BB44-B3F927FF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3DD1-2077-4374-B8CD-8B5292CA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327F6-8BBB-4BF6-A725-FC3A935A18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