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080210"/>
        <c:axId val="71420950"/>
      </c:barChart>
      <c:catAx>
        <c:axId val="740802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420950"/>
        <c:crosses val="autoZero"/>
        <c:auto val="1"/>
        <c:lblAlgn val="ctr"/>
        <c:lblOffset val="100"/>
        <c:noMultiLvlLbl val="0"/>
      </c:catAx>
      <c:valAx>
        <c:axId val="714209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0802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3815-D416-4691-9AC0-C008FD75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A97A-7877-4145-8495-591E61D3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B293-83F0-45FA-A2FD-9F44F4906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AB6D-D1C3-45E5-9195-BBE697817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E622-A8DB-41A9-9DD0-1C22DE5B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8A6F-069E-4993-9818-68BAB0A2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45E1-154D-4C97-BAAD-484C87D4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3BAC-A912-4769-A771-202BF010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148E-C4FC-498A-AD3E-98032454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D39F-0DE9-4F49-8889-8AE75E3E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E364-A467-4867-93CD-687BE672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BB47-9CF8-4491-A5A6-110A6FA6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B73C76-018E-4B68-AC67-623DAC273F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