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692303"/>
        <c:axId val="748339"/>
      </c:barChart>
      <c:catAx>
        <c:axId val="306923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8339"/>
        <c:crosses val="autoZero"/>
        <c:auto val="1"/>
        <c:lblAlgn val="ctr"/>
        <c:lblOffset val="100"/>
        <c:noMultiLvlLbl val="0"/>
      </c:catAx>
      <c:valAx>
        <c:axId val="7483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6923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7ACC-27B2-4CD5-96E0-3D52EEB2C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993B-3A58-4EE7-B6E7-32133FF24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44C0-3A0D-419C-A7F2-930FB98CC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EF40-6CCC-4C76-A9B1-1633D990C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2630-01EE-45BF-AC46-904F8F034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4677-F6DB-43BA-A774-DDB93A2BB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E2E7-6D28-46AF-8C60-EAC368806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B3ED-ACAA-4B6A-8CF6-4E0EAE8F2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AB9A-3103-444E-8E10-343A08D44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8EB2-22C4-4196-9403-AA660FBF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D80A-05CC-4D6A-9824-6A3854FE3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CB08-CB3B-4DBE-8CA1-095F8394F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087604-F49E-4D22-A877-342F661A0CF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