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50147"/>
        <c:axId val="50822854"/>
      </c:barChart>
      <c:catAx>
        <c:axId val="65250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22854"/>
        <c:crosses val="autoZero"/>
        <c:auto val="1"/>
        <c:lblAlgn val="ctr"/>
        <c:lblOffset val="100"/>
        <c:noMultiLvlLbl val="0"/>
      </c:catAx>
      <c:valAx>
        <c:axId val="50822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50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600-80A0-4D9C-A885-436DDB3C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C37-2D42-4241-8AD8-DA56F737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77D-13E2-44D2-BDEA-9670145C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4BA-501C-45A3-9CA2-6835F664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130-827C-442A-B6F5-62314967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225-ACAA-44BA-ABB3-C4E3CB95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2AC-9A16-4D1A-8371-5CD0319A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767-BAAD-4428-A2D1-C56A4CB7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2D2-ECC2-40AB-9A39-9AE11BD1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354-64F4-4491-8CDD-A8CB61D2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032-2958-4619-8CA2-379C5DDD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639-9424-420E-8412-AFFCA9F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27155-FF09-4AEA-9958-FAFDA4DDB0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