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250738"/>
        <c:axId val="49500522"/>
      </c:barChart>
      <c:catAx>
        <c:axId val="112507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500522"/>
        <c:crosses val="autoZero"/>
        <c:auto val="1"/>
        <c:lblAlgn val="ctr"/>
        <c:lblOffset val="100"/>
        <c:noMultiLvlLbl val="0"/>
      </c:catAx>
      <c:valAx>
        <c:axId val="495005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2507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4B76-DEA8-4D98-AF8D-AD438B727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E3C8-D246-4A62-9B84-5C93898FC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7656-BCC5-43D4-9E25-129709C00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6680-E651-4D64-95C2-E48200711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40F7-05ED-41AE-8813-8D6842F87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B505-5C5E-46AF-87EA-A71F495E7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0C4A-7DF1-445D-A6FF-645FF6833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246F-C968-4ADE-AE09-03A8006F9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16A7-CFF1-4D5D-A508-AAA510AA9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0383-1E86-4306-8A0D-DF463D0A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7480-2B84-404F-ABBA-D64C1EBB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A067-3E63-4C9C-8EA0-0C99346B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B4A7AD-5FEC-4313-B325-FDA523930D0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