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0407"/>
        <c:axId val="19423864"/>
      </c:barChart>
      <c:catAx>
        <c:axId val="98970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3864"/>
        <c:crosses val="autoZero"/>
        <c:auto val="1"/>
        <c:lblAlgn val="ctr"/>
        <c:lblOffset val="100"/>
        <c:noMultiLvlLbl val="0"/>
      </c:catAx>
      <c:valAx>
        <c:axId val="19423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0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7E2-9BA5-43CD-9AE1-16ECC7A0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AB1-2E26-421B-B289-C75616F0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0F7-0B33-4B86-ADA1-C09C36C0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ACD-1BBB-4F65-84B0-5D1D0B67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C63-34C4-48F1-9DF5-E67EA510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E45-F898-42F4-926E-7AF4CC4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9E0-6243-4617-9780-0265B358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280-93B5-49FA-9741-679C7BF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194-02B2-481C-8C8A-FBC78A9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D46-8F56-4F82-B2AF-1D08395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5FE-1A25-445B-BC83-5802415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C4E-C2DA-4E93-8EA5-23B487F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39A8-CEFE-4E8D-856E-C3899ADD34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