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78746"/>
        <c:axId val="50105173"/>
      </c:barChart>
      <c:catAx>
        <c:axId val="40378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05173"/>
        <c:crosses val="autoZero"/>
        <c:auto val="1"/>
        <c:lblAlgn val="ctr"/>
        <c:lblOffset val="100"/>
        <c:noMultiLvlLbl val="0"/>
      </c:catAx>
      <c:valAx>
        <c:axId val="50105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78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892-DC6D-48DA-9E33-DB48D839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967-CC27-4591-A93E-04BB98BF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937-5B02-4768-B143-5B209D2B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D72-5B4F-4E82-9248-AA04B311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1CE-7CA3-4E77-92B2-0E5CE1DA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A83-2886-4648-BEA0-D1411352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B80-4BCC-4FEB-8686-6F8B17D1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843-DD90-4119-8B15-E19D031B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956-DB55-4BB7-B9F4-670387F8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AAF-750B-4945-9045-7967C29D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BA9-CE92-434F-B2F6-0610A66C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4F0-0E50-4F16-8D77-50B5DA7F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087A8-3FE1-492E-B504-78019AEDFD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