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102880"/>
        <c:axId val="65762307"/>
      </c:barChart>
      <c:catAx>
        <c:axId val="361028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62307"/>
        <c:crosses val="autoZero"/>
        <c:auto val="1"/>
        <c:lblAlgn val="ctr"/>
        <c:lblOffset val="100"/>
        <c:noMultiLvlLbl val="0"/>
      </c:catAx>
      <c:valAx>
        <c:axId val="65762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028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E080-087B-4FA5-82FA-CA05A4D2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E91A-F9F2-4C25-AC00-DFA5CDF8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0422-4CBF-49FB-8DF6-81E202F2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1947-9EFC-4814-B745-3F33BBCE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614-E612-43B4-A06A-ED0FDFA8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3C05-C060-468E-AF77-89CC2DD4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6B9F-2BF4-4C21-B0FE-94A8CA76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2BE3-B653-47C6-826A-0ABD8FC1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8182-E26F-4119-97DA-04D0E2CA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0AD5-7760-41E9-9EDC-EF9EDE3C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45C5-DEED-4763-9CE6-268844C5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84C3-4C35-412E-8D5E-D097A59D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EBB1B-82F3-405A-95B1-272BFD8E94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