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09551"/>
        <c:axId val="24145024"/>
      </c:barChart>
      <c:catAx>
        <c:axId val="72209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45024"/>
        <c:crosses val="autoZero"/>
        <c:auto val="1"/>
        <c:lblAlgn val="ctr"/>
        <c:lblOffset val="100"/>
        <c:noMultiLvlLbl val="0"/>
      </c:catAx>
      <c:valAx>
        <c:axId val="24145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09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536-91A7-4BF2-BDB6-B2F21C5F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E1B-FE95-4CAE-ACCB-2C8AD064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0A1-9593-401A-80DC-BC5FF841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2A9-AE0A-4645-8E35-08E9B657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BFB-63CD-4C0D-B7CC-868F87BB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AFA-C3FD-4E57-B137-F4C06CCA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435-FEAB-4176-AB10-F7B20EBF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4E2-2828-43F6-92D6-742579F0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5C2-837D-46B8-90C4-E72F6B6C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799-2119-4662-A85B-15A5A114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5C7-BB0F-4897-ACB1-9743397D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F87-3688-445D-8088-3795EC05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11A90-4573-4094-A53D-065CC4EBB5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