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89903"/>
        <c:axId val="31156699"/>
      </c:barChart>
      <c:catAx>
        <c:axId val="75889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56699"/>
        <c:crosses val="autoZero"/>
        <c:auto val="1"/>
        <c:lblAlgn val="ctr"/>
        <c:lblOffset val="100"/>
        <c:noMultiLvlLbl val="0"/>
      </c:catAx>
      <c:valAx>
        <c:axId val="31156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89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DC5-6249-4BDD-82E1-FEC5670C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C95-FE51-41D6-ACD6-56772497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799-A578-4899-B694-351A26E5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238-7EFC-4DA2-9951-A57D0528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B02-E5C7-4964-B2A4-38DDF6B6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4AF-A9E2-44B4-89E7-85B9B4C3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9C9-0604-477D-A1A0-1275807B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DD8-55B7-46C5-8F75-BFDF5F0D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183-504D-4717-B457-191E9ED7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53A-2F22-4F8F-A2B3-654D7745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E6B-4D9F-4FD9-ADFD-9C730401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36A-22A5-4F34-95D0-2F3F4CF0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29AFD-67C1-4FC0-B2C0-9BCEA7E382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