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98540"/>
        <c:axId val="34220701"/>
      </c:barChart>
      <c:catAx>
        <c:axId val="70098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20701"/>
        <c:crosses val="autoZero"/>
        <c:auto val="1"/>
        <c:lblAlgn val="ctr"/>
        <c:lblOffset val="100"/>
        <c:noMultiLvlLbl val="0"/>
      </c:catAx>
      <c:valAx>
        <c:axId val="34220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98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255-3493-49D3-889E-82FB76B6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340-0422-4613-8851-0E9FFB07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B36-A31B-4841-ACAC-DC2CC618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951-B01F-403C-86E6-838C1E6E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D8A-524E-42F3-96D0-B7D58995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1C3-BBCC-4ED1-86E9-3DC259B4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79E-4A08-4B9B-86D0-75D8ADCE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C63-C7D2-40BB-98F8-E7781AF7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BBB-AC76-46A0-B467-443C8D37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AC5-A675-4E96-87D4-DAAB8AF1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CCD-6C84-4BB1-9B3B-807BFC4F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524-2741-40BC-AC95-08E428E4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7EFA2-78D8-44CF-A099-1ECFE1B66B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