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14935"/>
        <c:axId val="16571513"/>
      </c:barChart>
      <c:catAx>
        <c:axId val="53814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71513"/>
        <c:crosses val="autoZero"/>
        <c:auto val="1"/>
        <c:lblAlgn val="ctr"/>
        <c:lblOffset val="100"/>
        <c:noMultiLvlLbl val="0"/>
      </c:catAx>
      <c:valAx>
        <c:axId val="16571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14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871-DA8F-4186-BE00-5B593341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F1B-FDFE-4331-9296-13A9CE73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02A-9830-4644-BCC7-FE3EC692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746-E2DD-4BB4-BCB7-CB5E77DF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C06-6F07-42C2-BB96-029EDF48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252-C8FA-42C9-A054-848B7B06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B96-093D-4A46-A76B-7A3B50DB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9BF-185B-441A-8F97-66EDE62D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45D-CA8A-4022-990E-3C639031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849-7D7C-47F3-B11D-FE9E2DC5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90B-41CE-4A60-9CFF-931A8657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DD5-CEE5-456A-BD08-AA362C89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A8499-BE36-4A47-ABB0-364F29295B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