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89696"/>
        <c:axId val="68617185"/>
      </c:barChart>
      <c:catAx>
        <c:axId val="25089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17185"/>
        <c:crosses val="autoZero"/>
        <c:auto val="1"/>
        <c:lblAlgn val="ctr"/>
        <c:lblOffset val="100"/>
        <c:noMultiLvlLbl val="0"/>
      </c:catAx>
      <c:valAx>
        <c:axId val="68617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89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4BB-97E5-4220-856B-569C448C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1AE-9D17-468D-8CD3-D018A68A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40A-86EE-4551-B7A0-9AF2F1CE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DEF-CD50-4E71-A420-E182C653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EBB-ACAF-43CD-97B4-24D78B1D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860-0465-4688-BC29-34AE0E08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C75-CE51-47F8-BD33-72FC9200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EFA-52D7-4BD6-AFA0-2D7A29D9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5F1-ECD3-4667-93C3-FDA66FEB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6BC-7E33-4B51-BD8A-F411A3B8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EF8-5325-4659-A80B-77C497F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172-1EBB-416A-B965-125A1D5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352B4-7D34-44F6-99DF-F61EFA1B76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