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85352"/>
        <c:axId val="23016417"/>
      </c:barChart>
      <c:catAx>
        <c:axId val="48985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16417"/>
        <c:crosses val="autoZero"/>
        <c:auto val="1"/>
        <c:lblAlgn val="ctr"/>
        <c:lblOffset val="100"/>
        <c:noMultiLvlLbl val="0"/>
      </c:catAx>
      <c:valAx>
        <c:axId val="23016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85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630-6749-4DB3-8F86-59DBC167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616-FFAD-42AA-9872-E35EB492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272-0791-4494-9F52-8A4EB465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A05-F397-47CC-A05A-54AA9FAB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B65-FFF3-4327-BA9E-42EA35ED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CBC-2772-41C4-A3AA-0BF39534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CEF-E6BC-4823-B759-427D8357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24A-1BA4-45AA-ADA2-F9A65A81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CEB-1750-4EBB-87B5-4F8E03D2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603-7AC3-498D-AFC7-7AA99150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A8E-2D8E-4028-A0E2-6513EE92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033-A1A3-4017-9E04-AEFADC9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06A4C-06A5-4263-BFBB-29AAE9BB45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