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52525"/>
        <c:axId val="87522713"/>
      </c:barChart>
      <c:catAx>
        <c:axId val="87552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22713"/>
        <c:crosses val="autoZero"/>
        <c:auto val="1"/>
        <c:lblAlgn val="ctr"/>
        <c:lblOffset val="100"/>
        <c:noMultiLvlLbl val="0"/>
      </c:catAx>
      <c:valAx>
        <c:axId val="87522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52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903-B1A5-4D5E-970C-0631F91D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F8C-370B-40AD-A6ED-87AB9AA6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194-E445-4E21-8362-C7570FE8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FF1-8190-4AF9-968A-75FC12D5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B06-FD1F-4C53-A84C-DF6B3D9B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406-B249-4633-AB30-D24EF820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CD9-6A34-4522-ADD4-1113CBAC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FA9-2D21-4846-A43E-4910FB87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C19-65AB-4A81-909A-6AE8A872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BEB-1DB4-4871-9502-28A9A6C9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551-92BE-4824-97F0-258A940B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E1B-1946-4D4E-A545-12671C3E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84D15-398C-44C0-9819-E46AD931A5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