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67744"/>
        <c:axId val="59268311"/>
      </c:barChart>
      <c:catAx>
        <c:axId val="65767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68311"/>
        <c:crosses val="autoZero"/>
        <c:auto val="1"/>
        <c:lblAlgn val="ctr"/>
        <c:lblOffset val="100"/>
        <c:noMultiLvlLbl val="0"/>
      </c:catAx>
      <c:valAx>
        <c:axId val="59268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67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F0B-21B6-4C2F-87F9-B9276BED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23E-FFE7-4358-9C43-D69F0A56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98C-FDFC-4679-97C8-41843BD0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C4A-3C0F-442B-80A1-91C3EA4A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635-CDC4-4EC0-AC72-315C390A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354-012B-432D-95F4-A4C386BD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8A3-944D-4D87-A3C2-C33E0735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655-A077-4328-AB34-96853EAD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0A5-CC8F-432E-9994-AA637E30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271-0615-4B91-B40C-86786433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761-470E-4FB1-BF83-BC951D78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E31-009C-4F44-BF5B-2DAE1A5F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8F8C2-0B2B-4434-8E61-8419DB9BA8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