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887790"/>
        <c:axId val="61174579"/>
      </c:barChart>
      <c:catAx>
        <c:axId val="828877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174579"/>
        <c:crosses val="autoZero"/>
        <c:auto val="1"/>
        <c:lblAlgn val="ctr"/>
        <c:lblOffset val="100"/>
        <c:noMultiLvlLbl val="0"/>
      </c:catAx>
      <c:valAx>
        <c:axId val="611745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877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81EF-AFC7-4406-8E20-6FF9B7B04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A184-38B8-4E15-ABC8-2EB833D0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E30E-959C-4A99-97D7-72D6F7D50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A663-45D3-4FD5-8CBE-0AE64B2CB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F1A0-F62B-498E-88B4-49BE2783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D348-9760-40EB-B38E-CB3229CC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C66E-90DC-47EF-9924-F9608DF4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2398-8F91-4C04-A614-25E02980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BA13-EB25-4B71-9CD3-1D11FFB3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FDF8-20E9-45D5-8B8E-A211DCBA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3F33-E9D7-4EE6-9313-1797F1EE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F6B2-85F4-4159-B5C2-4E24384D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4289D-C0B9-48BC-A76A-A8604FCF09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