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00353"/>
        <c:axId val="87528025"/>
      </c:barChart>
      <c:catAx>
        <c:axId val="958003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528025"/>
        <c:crosses val="autoZero"/>
        <c:auto val="1"/>
        <c:lblAlgn val="ctr"/>
        <c:lblOffset val="100"/>
        <c:noMultiLvlLbl val="0"/>
      </c:catAx>
      <c:valAx>
        <c:axId val="875280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003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541E-0936-440F-995F-95A89C50E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1253-8DD9-49FA-B6B2-6E29C2EB1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32E-0310-413D-8A74-F16AC8B4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E8CC-8E57-4505-9619-97B2E1CC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70EB-CBD6-4B0C-A2BF-2EBF376D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2D5-0AFB-44A3-9520-9A35F5DB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F874-D055-41B6-A687-F90C9B04B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27D9-988D-4CA2-8DFF-57899816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044D-4161-42BE-9DA4-1B3B36384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2B01-CE0C-4CB1-B895-715C0D3B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B2A-3319-461F-822E-691CEFDA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F1B9-809B-4164-8B5E-07516C2D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254792-C8AB-4DD3-9C75-034BFB42099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