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02777"/>
        <c:axId val="51046906"/>
      </c:barChart>
      <c:catAx>
        <c:axId val="57202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46906"/>
        <c:crosses val="autoZero"/>
        <c:auto val="1"/>
        <c:lblAlgn val="ctr"/>
        <c:lblOffset val="100"/>
        <c:noMultiLvlLbl val="0"/>
      </c:catAx>
      <c:valAx>
        <c:axId val="51046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2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39E-378D-4BEE-AB36-9B05185E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947-2913-4139-ABB6-93FAA07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33B-8388-4C4F-A68E-8B45DC03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E3B-CB07-4EC4-B9A5-B8FC7AD0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311-1C0B-451F-9D88-FE6DFC6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BD8-F308-4320-B32C-6E055CD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164-07B7-4C14-9FBB-97531AE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865-2969-4709-A2C4-8ADBF95D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52D-7BEA-4047-9750-104C13F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AD8-EBDB-42FA-A564-31E3E25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6D2-9E13-45D2-A117-0AC6D78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AFF-74E3-45E9-8681-B7973C7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6F162-4B48-4334-AED3-6A17E3E07B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