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2638735-1C02-4727-9134-FA849145109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E1E0C8E-78DF-446D-972F-7128278C701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4F30D48-6AAD-4D9B-AAB8-959FDE35FFB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8AB69E3-B5D9-468C-811A-2E4F8311497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4C2FEF7-1FE9-41BA-AEED-D6376AEC19E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0D87C01-9B27-4334-8CE8-95D1F489779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239ABE3-3E07-441F-B7F3-FC2CF509D32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725CB4F-4613-45F2-8BF0-CF6B4A5A157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41D9104-EA7F-4E75-8BDC-2E55496FF97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3B39CF3-7996-48A1-92AC-EF76AD24881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5F4444B-F0B8-4C40-9954-C8BA10FA0D5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B3E085F-65ED-4828-A59D-A8962C202FA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1D3442A-ECEF-47EA-80E6-7714C085443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FFD0D06-3D37-40A3-8791-74874146E4A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3C3E95F-9C6C-4971-94CD-F38509A8EFE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0CC521B-6202-498D-A762-E2AAB81421C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66F1095-00E1-4ECB-B683-D20132A0021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046DF37-2234-47FE-8E55-19F6267A88E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7CA93A6-9D36-4293-B4EB-2C6178004A7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D5FE16D-0DDD-4C5F-A460-81E5366EFB9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CC54855-CEBB-49F3-8D1B-E4DA8F0AEDD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2C9C179-CCAE-49C3-A3BC-400A0DA5EFA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CE6C322-2706-4907-8964-5D378F7BB54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0E7840B-75ED-496A-8FED-F32EEAFC7FA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83EF0B3-C2CA-427B-BCE2-5CADF33C274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B097B9C-7206-4F8B-89B9-434A721636C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77EC8DF-E527-49D6-986C-F3C80EDED20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75387CC-0259-4FA7-835B-E1956CBB8E2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74E93D7-6F81-4750-BBFF-FA602CC0F6C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B4D7B6C-0488-44BA-94BE-31D7F5D4E9F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8E9216C-B880-469C-97D5-1269AEA3EC2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6889746-E9D7-481E-9B3A-E94352FA059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0559386-D577-4F90-9D8B-6887B6F62D4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74C77D1-DD7F-4A96-92C4-E08F9B583D4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57EFA79-2D81-4E46-AD7F-DB1277A76DB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8C215F1-A110-4F8F-B781-4E1D56EEACA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86410-88D5-42AD-88F7-3C7BBE524EB8}"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EF3E9-B9C6-4AC1-B5B0-70A2CD80861F}"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4D44F77-F3C8-4B10-BF28-791E7C48CA08}"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3E8FCD6-1E1E-45FA-84D2-428E9520040B}"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EA1625E-8814-4BB2-AFBC-6B8E0C7DF31D}"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8A60728-9678-44E6-9C60-76A004B3EB7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DC62BC1-D749-4919-83E3-AE3A2156E970}"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101ABF0-A689-49B2-9244-76A97AAAE530}"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627A406-8FC4-47C5-8A1A-C6C8AF77B8A1}"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8C2C24B-AC0B-497B-93D7-81E07E814AE4}"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13E2E5B-D458-4E2A-92E1-2ACA51216526}"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6200F61-EA23-43CA-AAEF-E59D3CB69994}"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EEBB0D6-0087-434A-BC7A-1C2242146504}"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643B4EB3-D4F0-4A16-B24A-908D046B446B}"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14A0082-4F57-4D6D-A480-21AF6A4DF8A0}"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C726DAE-7AB0-4C24-8897-E394EAD383DF}"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050E355-B362-4BEF-8E46-50681D490E9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4D9184A-F2C6-4A95-991A-12A445AD828D}"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8E1C4F2-41D6-45D5-9FE7-61ED9995138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01EE756-BF33-4263-9966-9151543874D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83C2387-2176-40C8-A128-5990BD95664A}"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95F14AE-6866-45C0-9D24-3F2F2B65428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0CFE4A0-D1BA-43A1-8E9C-55E388AAE04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4A6BA1D-AC88-4E47-8F0C-652018ECCB8D}"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0A9F68B-E445-49FA-9AEE-2BF6173E2C8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CF15C18-EE38-41D3-96FB-4371C7644EB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FEE8858-4570-4C7B-BBEB-AFC69253566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4D67095-3AF0-4306-BF09-95E6651D0E8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E28BD54-99BB-4CC5-BBD7-4B8829FC0ECA}"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38421BA-7439-42F0-BE9B-C9D6E6F07D4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93E16FB-4C0B-4AC4-9407-8175480B656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0AF969A-8B6C-468A-A118-23C262DEAB17}"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695E5B1-50A0-4CD8-8DA5-AA3016EB701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F4FB95B-E367-46A4-A6D9-43FE0046C75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2F47E10-70CA-4C1C-B77B-21DC5A86B17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9C18EB3-C093-4E8B-AF8B-B456D76B8EF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8F0F283-3E83-47DD-897E-D39B61292CF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FC0EB71-BBB0-45FC-B4CE-897B73EB3A6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C0571D0-B0A7-4C43-9897-DE9047F5990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2150BE4-2C6F-409C-9D89-4883AA65CEB1}"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D29A81D-200D-4885-8F25-EB4369FF3418}"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ECE0B3F-AB42-48F6-8A5B-648D3FD965A5}"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3593A18-1062-4708-A581-AD464145829F}"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84E8FF8-841F-4A61-8D33-6ECAC8AB849E}"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E73F89D-8648-4535-92E7-09101547C96F}"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CF5CE8A-2966-4FD4-8F0F-78C66EA88487}"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C72B44A-ECED-4D30-A844-D2F7CCF49111}"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0FD5175-7F9F-429A-B99C-424905802BBE}"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3AB1BB2-A0C0-4945-8420-871753047E17}"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6DE45C8-CBE9-4400-93B0-58145FADE4B8}"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3D1285D-3D65-44BB-8CA9-AD4A4A71E7AF}"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95EE658-7C2D-459E-98D6-261C5A204C53}"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6387564-8871-4B4C-B7F1-A89391B22718}"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7276B35-B016-4281-90C4-0B3088F5BC57}"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CBA75EA-C23C-4C85-A444-705092FBD340}"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518A021-EEC3-4B2C-B913-4831F10117F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B5B3C9C-6747-45F6-9193-14647466889D}"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5F27D5A-1D7A-400F-A656-DF140BC36538}"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9FD0E0B-11C5-4EB4-B61F-9CC295ED4942}"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384CC25-F7B6-4223-9D61-C845C1BDAD9D}"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95FA099-7F42-4A95-BCD1-6EF1326C8ED8}"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60879E1-5BF0-46DE-A0A3-5D0BB663EEC5}"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760435D-021E-43D0-BCA1-DB9972749851}"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0473D91-DA42-4ED9-853C-24F29C8D5EC8}"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A376951-EBCB-4DCB-BE53-41BFD77DDD36}"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772E69C-739A-405A-8B13-CDD971882827}"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82110AF-5E96-4B4B-AE97-858693E97D4B}"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02555DC-B59B-405A-82B5-D9D8E27D063D}"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7653262-5DC5-44EE-8ABE-93C014DAAA19}"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A343C7D-5777-403C-8964-2EEAE31A9DD4}"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08E777B-C6FC-4A84-8268-5E29BF125B90}"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9995BCF-9DF1-4664-9C75-A4DFDF341E1D}"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3714AB4-2CDF-4726-BC99-B4AC4F53F5B4}"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1E4A228-99DB-4288-9511-902C808F348C}"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C892B37-B74F-4F6D-A89B-CFC2FB51D13C}"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815005D-3942-4105-9FAA-A86072C2F801}"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4CB3D1F-0AA8-4ACA-B672-FE81E2712BD1}"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4DBC82D-ECFD-442D-A05E-54B6395209A9}"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CC0413E-7509-4616-BC6D-7BC96B52871A}"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83CA7CF-750F-4535-B6FC-FBA89ABC503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8CDB550-3F18-458C-96AB-7969DE83B296}"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ECC9D4C-5650-48F7-BD9E-8A20FB36D58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170C70E-B19B-41F3-AEAA-3910987D75D6}"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8357DC9-41B3-494C-924B-4B8AE05DE9B2}"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803E47D-E686-4EA3-8A84-F78100815A06}"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2EEA6EF-E36E-4F73-997A-A018C3B79FA0}"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9035A29-BA6E-470C-840C-1759EBEB3709}"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817CA82-C165-43DA-BDB0-29A4A059FC1F}"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1B0C870-D9C9-4489-85A0-62654ADD6CC3}"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F3BC0F2-12C9-4891-97AF-D52357DB55CD}"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97604E8-7AF4-4079-A827-08338310E197}"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DC6431A-A4C2-4438-ACC4-5FB36ECE4972}"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6C1296B-45A5-428E-8D6E-DE00A88FCC84}"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296456E-409F-4DFC-A9FB-223444D5CBEE}"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FA62CB3-F052-49D7-876F-8432076FDAFC}"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A8044BD-BCF8-4D30-AEAD-0E1F17A27857}"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FE8613D-BA2E-40C0-9738-A372E7745CE7}"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71650DB-1170-4181-AD20-9125BA8E75B2}"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BFE4B77-A196-42A8-AC54-28C9E0A68B18}"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2B24FEDC-BB88-4BFA-8DEE-55AC0573E675}"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A3DC697-3385-4EB6-9C64-7D7F09D2058D}"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54DB5CE-581B-446B-BDF7-284E565B71F2}"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23427F6-262C-4CE0-84AF-C95C92E1DA12}"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35BEBC4-A51A-4FB0-95EA-FE87952ECDB2}"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F259E39-0116-47C1-B513-9FEE50F1E16A}"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B43E46E-8BBE-46D8-9CEA-54FB19F1D281}"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E8F11B6-665E-45C5-ACEF-886489DF7D0C}"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75C3A62-9C2D-465B-AA23-A3EF8AC84F22}"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A9BEF74-5E7C-4A35-811E-10B954BCFE6C}"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46A67E6-64A4-4D58-8FDC-3DF96D1C8C1C}"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764F0AF-09E5-45B2-B658-0965B5540D2D}"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314C960-F6C3-45A9-8DAA-81B425CE0A49}"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01DD02C-A0E0-45E2-A6D0-8334B2A165D4}"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