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24304"/>
        <c:axId val="98412126"/>
      </c:barChart>
      <c:catAx>
        <c:axId val="80324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12126"/>
        <c:crosses val="autoZero"/>
        <c:auto val="1"/>
        <c:lblAlgn val="ctr"/>
        <c:lblOffset val="100"/>
        <c:noMultiLvlLbl val="0"/>
      </c:catAx>
      <c:valAx>
        <c:axId val="98412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24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893-30E3-458D-BEBB-E5A5D460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08F-D9DE-4B19-B32F-472A55E6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F8B-8C11-4CC1-8C18-F125B651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185-F8B5-4AA9-86B6-0CDD4C69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30B0-DA91-4827-845A-552413FB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DB2-F33A-4782-8580-BEF54C05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F01-3DB0-4A8C-9AD9-C90D4C3B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528-475D-4809-B8B9-7B0B3CA2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52C-C891-4609-B663-C8ACDFB5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965-D545-4F92-984D-098530DD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C45-4C96-4C65-9B71-A7B649B4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046-AD88-4C8F-A530-6BF5767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3A133-3C9F-4A16-B806-BB858794EF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