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89278"/>
        <c:axId val="98507796"/>
      </c:barChart>
      <c:catAx>
        <c:axId val="51289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07796"/>
        <c:crosses val="autoZero"/>
        <c:auto val="1"/>
        <c:lblAlgn val="ctr"/>
        <c:lblOffset val="100"/>
        <c:noMultiLvlLbl val="0"/>
      </c:catAx>
      <c:valAx>
        <c:axId val="98507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89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94F-9D6A-4B82-A2C2-39E3596D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A88-F00B-4F7C-BAD5-8B104044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35D6-AFD0-455E-A5AA-01AE801F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8D7-50F1-4DF9-996C-65999688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B3E-F0F1-442A-BA0C-FEA65574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F7A-A29C-44AE-BA59-EBCFFE8D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C69-1C31-4089-A4F5-9B874E67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237-761E-46D1-81CB-0EA42CF0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C6C-F5A1-4497-8FBD-359DB499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8E6-8A1F-4355-A089-48A0159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8EF-4D54-49FF-9E33-902BFAA8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69D-E398-4164-9E81-73B7D26F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CA211-19FE-49BD-8269-26DB32C1B7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