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85506"/>
        <c:axId val="83916601"/>
      </c:barChart>
      <c:catAx>
        <c:axId val="54285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16601"/>
        <c:crosses val="autoZero"/>
        <c:auto val="1"/>
        <c:lblAlgn val="ctr"/>
        <c:lblOffset val="100"/>
        <c:noMultiLvlLbl val="0"/>
      </c:catAx>
      <c:valAx>
        <c:axId val="83916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85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9DF-0BEE-4B8B-99BF-5B22BB21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03E-61F7-45EE-996E-18C25187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685-A263-4788-A73B-B3EADA1A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827-467E-48A0-9BC1-7213175B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2D8-F73E-4CD9-9BFD-62A66CA8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2F6-E018-467B-A81C-C96FF927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BDB-73A1-488E-A679-B11FAD31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B31-150C-46D1-A89A-209E4AD0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A39-E961-42D8-8028-C3C53F55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994-5352-492F-8496-0C6078C1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DE4-1C84-4646-AE5E-111D85D5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36C-069B-485B-9DED-5F8717C9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953A6-EBF0-439C-81C8-B9C7ABE0B6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