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13897"/>
        <c:axId val="60801592"/>
      </c:barChart>
      <c:catAx>
        <c:axId val="8221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01592"/>
        <c:crosses val="autoZero"/>
        <c:auto val="1"/>
        <c:lblAlgn val="ctr"/>
        <c:lblOffset val="100"/>
        <c:noMultiLvlLbl val="0"/>
      </c:catAx>
      <c:valAx>
        <c:axId val="60801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1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131-ED82-4C47-9A5B-1CB70E04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67B-6587-4514-952D-3D78648E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CCA-5675-4336-BBFD-113E575B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8F6-4CDE-4FCE-A6B9-D47BDE37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A35-11D0-4BAC-8DAA-2B359F4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C81-3BA4-4208-9B29-01EF854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996-4D23-4BAF-8A9D-2C741110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703-D637-4B3D-AEA8-7EE3F4D8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1B8-6CD8-45C3-AC79-271C156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2EB-E3F0-4917-A038-E12A0689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BC5-AA73-413B-A975-920F3F8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F6F-CCB1-45DB-93CE-C70A2D4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D229E-23F0-4A68-B61B-43EFB23DF8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