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AE38132-2767-47FC-A80D-C05947C7A69B}"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2751EBA-867E-4790-AA08-3A924D99872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F10E474-CBBF-4EB0-857B-86D00D54679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3AC1781-F500-40FB-A15F-B058E91C7A4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A925EEC-F81A-4A14-A1E5-A0F6C72DAD0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5236093-F0BF-4B82-B0AD-86C9A4E6644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D01E9A6-8AC2-4A94-B56A-B1BC415EDA2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4BE0F8A-B46B-4E13-9D17-9B55B581D76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B75D19E-E05E-4763-A08A-E67742F0CE9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5E34340-E9C0-43E3-942C-BF9D177325A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086D85F-4724-46EB-832D-5EA986460A3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7D42EED-A3C9-4641-9110-B9468948BA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58255E-4ECF-46AA-A12F-BD17C1921A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1E2FE26-3C9D-4E84-A5E7-E737F63241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1E331C6-0BED-4387-8359-A565ED071C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A70B936-A0DF-4B53-BAFC-36BD2F0045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FCE6958-2D36-4CB4-86F8-364F9BCF9AA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55D027D-8826-45B8-AF37-2D841656B14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DA945A8-1FF5-451C-9981-FF83124060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32B92DD-961A-4281-B5DF-FC32BDC080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2135F93-CA2E-4485-A221-E944632060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F3B504D-7D39-456D-8255-C1A96912E7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28CF73-11D0-47B6-B19D-03BFF6E481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5F88F25-A96B-4985-A2AA-9FB6787F6E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C6218CE-063D-4A6D-915C-579FF9321A9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0AC3F95-46D0-45E6-B9A7-A4CA3DC362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CC7179C-3B17-43B9-8D23-8E9B0A9A7BE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E1AABEB-0F55-4E10-B0EA-86D7C09C21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83DD8B-7972-4514-A1FB-49DC47F953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86AAE1-8117-4CED-880E-E8FCBA4D64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98FF13-1227-4588-B295-5252040722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E6F9C1-D1FA-4520-B82A-0204F1C749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665039-5A43-42C6-8C29-9D8A6266E0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996CF3-A4D0-4248-BF75-30F982D9EE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278939-1132-4A37-B7EF-EA104032DC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611E7-3057-40BD-A953-D36228959441}"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60415-3C31-4842-BC87-B2B8DF54565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8B447DD1-F75A-40FA-A5C0-F274BBF59E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6A25508-CF7F-43A7-AEA2-474B08F06AD3}"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6CCA4FF-9B09-4A89-B311-03F20C7B9E72}"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0F4F224-9BC2-4E69-8C7C-976C013E5400}"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B30A1B9-3911-4578-A1DF-E588EB5028D2}"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31B7A89-7C80-49A1-8C96-A375726A6EF0}"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8BD3F7B-890E-4EA3-BD00-A884DFFE37D7}"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507700F-60BC-4A76-ACE1-937431518731}"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BA94B37-E19A-4F8D-AECB-029543D4B87F}"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6D07891-471D-43A8-B1AC-06DD4BA843DE}"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8C36E0C-E97A-44CC-88B9-F6FB60935120}"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DBED3AE-BA21-474B-82EF-694846CF6CE1}"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EE2D651-AA59-43D2-B4F9-8D8B13407738}"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07D0D7E-E23F-4B39-9BCA-99BE022FD5B2}"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4B72EE9-CC46-40C5-A920-FC5CDC26F181}"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A7B1967-7AD5-4CE5-8A07-27C19315581C}"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AE82456-73FF-4E58-929A-B3B9A03741E8}"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08DD232-659F-43D1-8000-B441700EE717}"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F0291172-2F72-456B-A139-9DDCB5935A64}"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75B3BC0B-36F6-4113-8CDA-079FCEC755E8}"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EFD55B2-AB98-4271-81EC-E8F3070469B4}"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F94A74F-9798-4ED6-9F57-CEA0ADDEEB2B}"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D5787D4-2230-4CF9-AF86-B232EF87CDD1}"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8930433-A776-4C71-84EA-A347BADEEC06}"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EC00099-13BB-4100-A4CB-708935A3722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40C5743-8026-43EF-9797-9F96FA04ED3B}"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FD08A2E-BF25-48FB-8BAD-104CCA0E2E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67B4C57-AAED-4174-842D-9F09838799BC}"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FAF8DEFD-7A77-4BC8-8E9E-CB17D364D1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2B04232-2F89-4CA9-AF03-D986AB7968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3F166E3-B43F-46A9-8C62-94BE971478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EF7C002-54E4-4633-BD23-D0842A3A7C7C}"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8540189-F570-457A-AC96-35E69D53C9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84EFBBD-A39A-433D-9E26-E408051206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A89C85F-B679-4646-BF5C-961A0363B5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72E770B-87F1-413B-A59B-5B7793239D13}"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51FE951-8CFC-4C25-A183-C89196D87D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4166EC0-ED2D-4296-BFEB-2720934869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F8B3502-9A4B-4CD4-82EF-5C1D78D4A8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B66923D-F39F-4D7C-984A-416E98AFE0D7}"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832A7D8-864F-4895-87D1-13A6267DA59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B33B436-6B0D-4DFA-A829-7F1868DAE96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36591EA-3311-459B-8EBE-9C68AC879037}"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E44219B-FDE3-4F51-B505-96564FB96B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BF9A17A-0FB0-4B99-89F2-7F4A066391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03EA3DC-41B7-4C5C-B192-35FBB0CD6D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399CA35-49F8-468F-93B5-C04010417DF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F7813CF-2325-4C2F-8BE5-64A2F4E28CC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B3C8F2C-560F-47A6-BCFE-BEB6411953B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03509CE-A5A5-4D4D-85CF-9205F874240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1AE1DF8-7DC5-4121-AC86-E5C43738E66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B5114E8-2A84-44C5-B380-7246D026255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A098977-7F86-48DE-BAD5-C95D130FDC4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5A59A43-96F7-43FD-9F9E-6EBE90B1FAF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B13DB4C-D71E-4674-A42E-E9DD9E3955E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7227215-5ECB-4F39-8F80-2679D365B37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90F8FD9-CD6F-4CDE-8DE6-0412E2D4C48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A2E00C6-4A2E-4A1A-AE87-B5D35C6304D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42CE217-5AE1-4666-BF76-43947EFB3DF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60794E6-2F2C-416A-93CB-4D7E62FA8DB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399E7ED-AB3A-4922-955B-B2AD107EABD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19BB660-9BAE-4A44-AD8B-981B5F5AA4B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13477E8-9983-40AE-855A-7E992E13D94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5FD914F-5580-4F17-A1B4-C8A027046EB4}"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4768B9D-5307-483F-B4A6-985929056F10}"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01CE55F-CC61-4828-A651-202FFB8B5C6B}"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D37DDED-86CF-4EC4-BFB3-4B7014470D0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63954B6-B8B8-46CA-964F-3F19EA28824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9AD37BE-A6E3-4B70-BF72-3769D97AABCF}"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3674CFF-4795-4EA3-9248-A5D4108C0099}"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5878041-E173-4D90-8330-2DE085B18F7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14B95FD-0CC1-4EDE-9E93-153E579EAD9A}"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BB00286-F43D-43CA-B24B-88C2814F51C5}"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559D2AE-4EE2-49DE-BF58-659744642BA1}"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6B3B0D6-0C9F-41B6-A37E-4F048E46F921}"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DA1DF7E-6DF4-4992-A57F-D639B1492066}"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5FFF58C-691F-42FA-8127-DDD13F0379B8}"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EC1D174-F588-4D9B-AEF4-063D4E24F7E3}"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1E54C17-098E-4139-BF83-E228ED4A1D64}"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8550CD1-7BA1-42C5-903E-21D0702D24F1}"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8783297-1607-4CBA-9F2E-61B8752453CF}"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A7CED9B-2856-436D-83F4-BD884DDC2D3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D19F7F0-BB14-4937-90CE-25391B88438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F4FE593-772B-47C1-A016-5715D1BBA3F1}"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6C959DB-CBC9-4F5F-B577-2CF595D56287}"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73380F0-A77A-4286-B71A-0FF2371FEAB5}"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CE3797B-FD83-4502-95AC-A0B62CCB162E}"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F5C4AAE-877F-40DF-8F09-88E9235A9618}"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ED8B078-1CEE-49F7-B1B5-32C88BDBC29F}"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AC350A2-ACC3-4169-A432-C3A4F5ED84FF}"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B66DFA4-94BC-49EC-8FBF-D02E2BDB7157}"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AB58370-12DB-4264-95A7-B2195E165BC1}"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FE9D11F-224A-4CDC-B15B-07C2B60AD6D5}"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A95D6BD-2B73-42DF-87B5-F68CBA2D62A2}"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F778DC0-BAE5-4748-ABDE-172995966ABF}"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BB2C86C-033D-4761-980B-F03EF8085E19}"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CB549C0-D79D-4D15-99DC-7CC71906A2C5}"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DBFC1F15-73E8-4C1D-ADC3-5042432697A0}"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56519CA-3761-4D2D-B235-E1DA3C9788D2}"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63F16B4-06C7-4EFB-91F2-89440E605302}"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2A11A39-4C89-40C5-A1A2-9A1EB090F30B}"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E07C690-B9FE-44E3-A887-FB5CDC87242B}"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7E07BBA-8586-4C4C-942C-44409AD9E833}"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775E768-7FE9-4739-A6BC-83B00B50FCE2}"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9E95312-4A18-4F64-9F0A-95DCE6DAE3DA}"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10240B5-95D9-40BB-8A62-5BB2826EB880}"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A12539D-D943-456B-AA18-2B3BBE44DF00}"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F96170F-4E16-4D63-8B16-EE6E964D811A}"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A432E31-4E37-4C7B-96CF-631889D9C12D}"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107BC892-A977-4DEF-9B50-F0BF8A64E7AD}"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3014C37-F9F7-4509-B7A1-BA32B3D20F65}"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3B44BBC-248F-405E-BACA-47E4319888C1}"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3DCACAF-7707-42CE-98BB-C783471DB85E}"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C26FFE2-0C77-411A-A87E-F46B076B3011}"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C482CEF-1C45-4C57-941D-64D690487138}"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C5905D4-27DD-48FD-975F-FCC6FF19195C}"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E84B76C-DB12-426D-8654-BC6FC8C52885}"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41DE343-AB04-44E6-83D8-8738CD8DC237}"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33935DD-1CE9-42A7-9213-FCF142B7DF85}"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99393DC-C350-4150-8FC1-C439E86C6137}"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8C8327A-75B5-46E9-AA33-1DF2176DC7A5}"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